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7.jpeg" ContentType="image/jpeg"/>
  <Override PartName="/ppt/media/image4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118.jpeg" ContentType="image/jpeg"/>
  <Override PartName="/ppt/media/image79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120.jpeg" ContentType="image/jpeg"/>
  <Override PartName="/ppt/media/image41.jpeg" ContentType="image/jpeg"/>
  <Override PartName="/ppt/media/image119.jpeg" ContentType="image/jpeg"/>
  <Override PartName="/ppt/media/image102.jpeg" ContentType="image/jpeg"/>
  <Override PartName="/ppt/media/image82.jpeg" ContentType="image/jpeg"/>
  <Override PartName="/ppt/media/image14.jpeg" ContentType="image/jpeg"/>
  <Override PartName="/ppt/media/image8.png" ContentType="image/png"/>
  <Override PartName="/ppt/media/image3.png" ContentType="image/png"/>
  <Override PartName="/ppt/media/image112.jpeg" ContentType="image/jpeg"/>
  <Override PartName="/ppt/media/image56.jpeg" ContentType="image/jpeg"/>
  <Override PartName="/ppt/media/image9.jpeg" ContentType="image/jpeg"/>
  <Override PartName="/ppt/media/image108.jpeg" ContentType="image/jpeg"/>
  <Override PartName="/ppt/media/image12.jpeg" ContentType="image/jpeg"/>
  <Override PartName="/ppt/media/image29.jpeg" ContentType="image/jpeg"/>
  <Override PartName="/ppt/media/image88.jpeg" ContentType="image/jpeg"/>
  <Override PartName="/ppt/media/image1.png" ContentType="image/png"/>
  <Override PartName="/ppt/media/image52.jpeg" ContentType="image/jpeg"/>
  <Override PartName="/ppt/media/image98.jpeg" ContentType="image/jpeg"/>
  <Override PartName="/ppt/media/image39.jpeg" ContentType="image/jpeg"/>
  <Override PartName="/ppt/media/image5.png" ContentType="image/png"/>
  <Override PartName="/ppt/media/image33.jpeg" ContentType="image/jpeg"/>
  <Override PartName="/ppt/media/image43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23.png" ContentType="image/png"/>
  <Override PartName="/ppt/media/image49.jpeg" ContentType="image/jpeg"/>
  <Override PartName="/ppt/media/image54.jpeg" ContentType="image/jpeg"/>
  <Override PartName="/ppt/media/image128.jpeg" ContentType="image/jpeg"/>
  <Override PartName="/ppt/media/image57.jpeg" ContentType="image/jpeg"/>
  <Override PartName="/ppt/media/image58.jpeg" ContentType="image/jpeg"/>
  <Override PartName="/ppt/media/image42.jpeg" ContentType="image/jpeg"/>
  <Override PartName="/ppt/media/image6.png" ContentType="image/png"/>
  <Override PartName="/ppt/media/image59.jpeg" ContentType="image/jpeg"/>
  <Override PartName="/ppt/media/image45.jpeg" ContentType="image/jpeg"/>
  <Override PartName="/ppt/media/image44.jpeg" ContentType="image/jpeg"/>
  <Override PartName="/ppt/media/image38.jpeg" ContentType="image/jpeg"/>
  <Override PartName="/ppt/media/image97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5.jpeg" ContentType="image/jpeg"/>
  <Override PartName="/ppt/media/image10.jpeg" ContentType="image/jpeg"/>
  <Override PartName="/ppt/media/image106.jpeg" ContentType="image/jpeg"/>
  <Override PartName="/ppt/media/image86.jpeg" ContentType="image/jpeg"/>
  <Override PartName="/ppt/media/image27.jpeg" ContentType="image/jpeg"/>
  <Override PartName="/ppt/media/image32.jpeg" ContentType="image/jpeg"/>
  <Override PartName="/ppt/media/image31.jpeg" ContentType="image/jpeg"/>
  <Override PartName="/ppt/media/image55.jpeg" ContentType="image/jpeg"/>
  <Override PartName="/ppt/media/image26.png" ContentType="image/png"/>
  <Override PartName="/ppt/media/image36.jpeg" ContentType="image/jpeg"/>
  <Override PartName="/ppt/media/image2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24.png" ContentType="image/png"/>
  <Override PartName="/ppt/media/image73.jpeg" ContentType="image/jpeg"/>
  <Override PartName="/ppt/media/image15.jpeg" ContentType="image/jpeg"/>
  <Override PartName="/ppt/media/image16.jpeg" ContentType="image/jpeg"/>
  <Override PartName="/ppt/media/image113.jpeg" ContentType="image/jpeg"/>
  <Override PartName="/ppt/media/image92.jpeg" ContentType="image/jpeg"/>
  <Override PartName="/ppt/media/image19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50.jpeg" ContentType="image/jpeg"/>
  <Override PartName="/ppt/media/image51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72.jpeg" ContentType="image/jpeg"/>
  <Override PartName="/ppt/media/image25.png" ContentType="image/png"/>
  <Override PartName="/ppt/media/image74.jpeg" ContentType="image/jpeg"/>
  <Override PartName="/ppt/media/image75.jpeg" ContentType="image/jpeg"/>
  <Override PartName="/ppt/media/image76.jpeg" ContentType="image/jpeg"/>
  <Override PartName="/ppt/media/image83.jpeg" ContentType="image/jpeg"/>
  <Override PartName="/ppt/media/image103.jpeg" ContentType="image/jpeg"/>
  <Override PartName="/ppt/media/image84.jpeg" ContentType="image/jpeg"/>
  <Override PartName="/ppt/media/image104.jpeg" ContentType="image/jpeg"/>
  <Override PartName="/ppt/media/image85.jpeg" ContentType="image/jpeg"/>
  <Override PartName="/ppt/media/image105.jpeg" ContentType="image/jpeg"/>
  <Override PartName="/ppt/media/image89.jpeg" ContentType="image/jpeg"/>
  <Override PartName="/ppt/media/image17.jpeg" ContentType="image/jpeg"/>
  <Override PartName="/ppt/media/image90.jpeg" ContentType="image/jpeg"/>
  <Override PartName="/ppt/media/image110.jpeg" ContentType="image/jpeg"/>
  <Override PartName="/ppt/media/image18.jpeg" ContentType="image/jpeg"/>
  <Override PartName="/ppt/media/image91.jpeg" ContentType="image/jpeg"/>
  <Override PartName="/ppt/media/image111.jpeg" ContentType="image/jpeg"/>
  <Override PartName="/ppt/media/image93.jpeg" ContentType="image/jpeg"/>
  <Override PartName="/ppt/media/image94.jpeg" ContentType="image/jpeg"/>
  <Override PartName="/ppt/media/image95.jpeg" ContentType="image/jpeg"/>
  <Override PartName="/ppt/media/image96.jpeg" ContentType="image/jpeg"/>
  <Override PartName="/ppt/media/image99.jpeg" ContentType="image/jpeg"/>
  <Override PartName="/ppt/media/image114.jpeg" ContentType="image/jpeg"/>
  <Override PartName="/ppt/media/image115.jpeg" ContentType="image/jpeg"/>
  <Override PartName="/ppt/media/image121.jpeg" ContentType="image/jpeg"/>
  <Override PartName="/ppt/media/image122.jpeg" ContentType="image/jpeg"/>
  <Override PartName="/ppt/media/image123.jpeg" ContentType="image/jpeg"/>
  <Override PartName="/ppt/media/image124.jpeg" ContentType="image/jpeg"/>
  <Override PartName="/ppt/media/image125.jpeg" ContentType="image/jpeg"/>
  <Override PartName="/ppt/media/image1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B385-4CFA-41AD-BD49-8EBD0F33F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50920" y="4044240"/>
            <a:ext cx="8640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BC3C-B1B4-4B8D-B7D0-3B9B5E74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216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8560" y="2133720"/>
            <a:ext cx="4216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50920" y="4044240"/>
            <a:ext cx="4216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8560" y="4044240"/>
            <a:ext cx="4216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615E-1307-41B1-983F-FF7977D0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2782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72320" y="2133720"/>
            <a:ext cx="2782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4080" y="2133720"/>
            <a:ext cx="2782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50920" y="4044240"/>
            <a:ext cx="2782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72320" y="4044240"/>
            <a:ext cx="2782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4080" y="4044240"/>
            <a:ext cx="2782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66FB-F3D7-4B1C-9597-94245A3C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216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560" y="2133720"/>
            <a:ext cx="4216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216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560" y="2133720"/>
            <a:ext cx="4216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0920" y="4044240"/>
            <a:ext cx="4216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117F-C182-441B-8C3F-76E56C04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216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8560" y="2133720"/>
            <a:ext cx="4216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8560" y="4044240"/>
            <a:ext cx="4216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216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560" y="2133720"/>
            <a:ext cx="4216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50920" y="4044240"/>
            <a:ext cx="8640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50920" y="4044240"/>
            <a:ext cx="8640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216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8560" y="2133720"/>
            <a:ext cx="4216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4044240"/>
            <a:ext cx="4216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8560" y="4044240"/>
            <a:ext cx="4216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2782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72320" y="2133720"/>
            <a:ext cx="2782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080" y="2133720"/>
            <a:ext cx="2782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50920" y="4044240"/>
            <a:ext cx="2782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72320" y="4044240"/>
            <a:ext cx="2782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94080" y="4044240"/>
            <a:ext cx="2782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B646-40E9-4287-8281-6E9D9B87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216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560" y="2133720"/>
            <a:ext cx="4216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51C3-0AAA-40EC-97BF-CA9D74B9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BB91-45DE-40CA-B2FA-28234854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FAE9-ACFC-43DD-976F-92A87EAD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216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560" y="2133720"/>
            <a:ext cx="4216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50920" y="4044240"/>
            <a:ext cx="4216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647A-2D6A-476A-8F50-75169962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216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560" y="2133720"/>
            <a:ext cx="4216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8560" y="4044240"/>
            <a:ext cx="4216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8885-34E5-4BDE-9539-9674C44D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216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560" y="2133720"/>
            <a:ext cx="4216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50920" y="4044240"/>
            <a:ext cx="8640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1F46-8B9F-4BF2-B832-45AEC3C6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00800"/>
            <a:ext cx="101347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53760" indent="-251280">
              <a:spcBef>
                <a:spcPts val="799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810440" indent="-200880">
              <a:spcBef>
                <a:spcPts val="799"/>
              </a:spcBef>
              <a:buClr>
                <a:srgbClr val="a3d9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304560" y="647712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293b2"/>
                </a:solidFill>
                <a:latin typeface="Gill Sans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293b2"/>
                </a:solidFill>
                <a:latin typeface="Gill Sans Light"/>
              </a:rPr>
              <a:t>jeudi 8 juin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666520" y="64771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293b2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293b2"/>
                </a:solidFill>
                <a:latin typeface="Gill Sans Ligh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4771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293b2"/>
                </a:solidFill>
                <a:latin typeface="Gill Sans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B10A-06D0-4D93-9448-E35AEA33B620}" type="slidenum">
              <a:rPr b="0" lang="en-US" sz="1400" spc="-1" strike="noStrike">
                <a:solidFill>
                  <a:srgbClr val="7293b2"/>
                </a:solidFill>
                <a:latin typeface="Gill Sans Ligh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694720" y="252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19605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0"/>
            <a:ext cx="101347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23880" cy="15066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101347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512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" name=""/>
          <p:cNvSpPr/>
          <p:nvPr/>
        </p:nvSpPr>
        <p:spPr>
          <a:xfrm>
            <a:off x="8694720" y="252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0720" cy="979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152280" y="6400800"/>
            <a:ext cx="10134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80880" y="640080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293b2"/>
                </a:solidFill>
                <a:latin typeface="Gill Sans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93b2"/>
                </a:solidFill>
                <a:latin typeface="Gill Sans Light"/>
              </a:rPr>
              <a:t>CHAMBRE DE COMMERCE ET D’INDUSTRIE BAYONNE PAYS BASQUE </a:t>
            </a:r>
            <a:r>
              <a:rPr b="0" lang="en-US" sz="1200" spc="-1" strike="noStrike">
                <a:solidFill>
                  <a:srgbClr val="7293b2"/>
                </a:solidFill>
                <a:latin typeface="Gill Sans Light"/>
              </a:rPr>
              <a:t>	</a:t>
            </a:r>
            <a:r>
              <a:rPr b="0" lang="en-US" sz="1200" spc="-1" strike="noStrike">
                <a:solidFill>
                  <a:srgbClr val="7293b2"/>
                </a:solidFill>
                <a:latin typeface="Gill Sans Light"/>
              </a:rPr>
              <a:t>jeudi 8 juin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380360" y="189000"/>
          <a:ext cx="158436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80360" y="189000"/>
                    <a:ext cx="15843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4" marL="1828800" algn="ctr">
              <a:spcBef>
                <a:spcPts val="499"/>
              </a:spcBef>
              <a:buClr>
                <a:srgbClr val="a3d900"/>
              </a:buClr>
              <a:buFont typeface="Gill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6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image" Target="../media/image80.jpeg"/><Relationship Id="rId6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1.jpe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image" Target="../media/image90.jpeg"/><Relationship Id="rId5" Type="http://schemas.openxmlformats.org/officeDocument/2006/relationships/image" Target="../media/image91.jpeg"/><Relationship Id="rId6" Type="http://schemas.openxmlformats.org/officeDocument/2006/relationships/image" Target="../media/image92.jpeg"/><Relationship Id="rId7" Type="http://schemas.openxmlformats.org/officeDocument/2006/relationships/image" Target="../media/image93.jpeg"/><Relationship Id="rId8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image" Target="../media/image99.jpeg"/><Relationship Id="rId5" Type="http://schemas.openxmlformats.org/officeDocument/2006/relationships/image" Target="../media/image100.jpeg"/><Relationship Id="rId6" Type="http://schemas.openxmlformats.org/officeDocument/2006/relationships/image" Target="../media/image101.jpeg"/><Relationship Id="rId7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2.jpeg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3.jpeg"/><Relationship Id="rId3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image" Target="../media/image106.jpeg"/><Relationship Id="rId5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7.jpeg"/><Relationship Id="rId3" Type="http://schemas.openxmlformats.org/officeDocument/2006/relationships/image" Target="../media/image108.jpeg"/><Relationship Id="rId4" Type="http://schemas.openxmlformats.org/officeDocument/2006/relationships/image" Target="../media/image109.jpeg"/><Relationship Id="rId5" Type="http://schemas.openxmlformats.org/officeDocument/2006/relationships/image" Target="../media/image110.jpeg"/><Relationship Id="rId6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1.jpeg"/><Relationship Id="rId3" Type="http://schemas.openxmlformats.org/officeDocument/2006/relationships/image" Target="../media/image112.jpeg"/><Relationship Id="rId4" Type="http://schemas.openxmlformats.org/officeDocument/2006/relationships/image" Target="../media/image113.jpeg"/><Relationship Id="rId5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4.jpeg"/><Relationship Id="rId3" Type="http://schemas.openxmlformats.org/officeDocument/2006/relationships/image" Target="../media/image115.jpeg"/><Relationship Id="rId4" Type="http://schemas.openxmlformats.org/officeDocument/2006/relationships/image" Target="../media/image116.jpeg"/><Relationship Id="rId5" Type="http://schemas.openxmlformats.org/officeDocument/2006/relationships/image" Target="../media/image117.jpeg"/><Relationship Id="rId6" Type="http://schemas.openxmlformats.org/officeDocument/2006/relationships/image" Target="../media/image118.jpeg"/><Relationship Id="rId7" Type="http://schemas.openxmlformats.org/officeDocument/2006/relationships/image" Target="../media/image119.jpeg"/><Relationship Id="rId8" Type="http://schemas.openxmlformats.org/officeDocument/2006/relationships/image" Target="../media/image120.jpe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1.jpeg"/><Relationship Id="rId3" Type="http://schemas.openxmlformats.org/officeDocument/2006/relationships/image" Target="../media/image122.jpeg"/><Relationship Id="rId4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3.jpeg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4.jpeg"/><Relationship Id="rId3" Type="http://schemas.openxmlformats.org/officeDocument/2006/relationships/image" Target="../media/image125.jpeg"/><Relationship Id="rId4" Type="http://schemas.openxmlformats.org/officeDocument/2006/relationships/image" Target="../media/image126.jpeg"/><Relationship Id="rId5" Type="http://schemas.openxmlformats.org/officeDocument/2006/relationships/image" Target="../media/image127.jpeg"/><Relationship Id="rId6" Type="http://schemas.openxmlformats.org/officeDocument/2006/relationships/image" Target="../media/image128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99512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ill Sans"/>
              </a:rPr>
              <a:t>retour sur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Gill Sans"/>
              </a:rPr>
              <a:t>IHM’06 &amp; CHI’06</a:t>
            </a:r>
            <a:endParaRPr b="0" lang="en-US" sz="6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Guillaume Rivièr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IPSI – ESTIA, 8 Juin 2006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DFD253B-F0B8-4432-99E5-A320EA1179A8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785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Interaction et espaces virtuels]</a:t>
            </a:r>
            <a:r>
              <a:rPr b="1" lang="fr-FR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Vers la maîtrise du virtuel à travers le réel : un nouvel usage de l’informatique en desig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Le panoscop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08000" y="6467400"/>
            <a:ext cx="6408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Light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716360" y="3038400"/>
            <a:ext cx="4394160" cy="377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6C48-F2B8-430F-873A-4FA7CCD0E35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051D76-63B2-4430-8C9E-FEFCC84D7134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8920" y="2133360"/>
            <a:ext cx="871236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[Démonstrations] Interactions humain-ordinateur porté via des interfaces diffus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Gill Sans"/>
              </a:rPr>
              <a:t>N. Plouznikoff, J.M. Robert (Ecole Polytechnique Montréal)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« Wearable Computer »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Affichage d’informations, d’annotations, sur objets du monde ré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Aide à la tâche physiqu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Insérer une strate virtuelle entre interface et utilisateur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Gill Sans"/>
              </a:rPr>
              <a:t>Simplifier l’interaction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Gill Sans"/>
              </a:rPr>
              <a:t>Guider l’utilisateur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Pointage au bout du doig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Q: pinceau sur rétine ! (beaucoup plus précis)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059280" y="5877000"/>
            <a:ext cx="5762520" cy="641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Light"/>
              </a:rPr>
              <a:t>Support mobile à la tâche: médiation utilisateur – monde ré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Light"/>
              </a:rPr>
              <a:t>par l’intermédiaire d’un ordinateur porté (autre papier des auteurs à IHM’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CE6C-C2A8-4847-930C-7DAE29E828A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45F7D-1FEA-4C20-8382-52CD8E64FE88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878508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Démonstrations] Interactions humain-ordinateur porté via des interfaces diffus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Altération virtuelle d’interfac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matérielles pour le support à la tâch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Virtualisation d’interfaces matériell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pour le support à la tâch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Diffusion d’interfaces matériell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à même l’environnemen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Comparaison des niveaux 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médiatio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364000" y="3213000"/>
            <a:ext cx="3600720" cy="314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580B-2296-41D0-B412-B519D11607E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F3876-F02E-4F38-880E-9CD219598305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Démonstrations] Interactions humain-ordinateur porté via des interfaces diffus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Altération virtuelle d’interfaces matérielles pour le support à la tâch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900000" y="3898800"/>
            <a:ext cx="3167280" cy="2409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716360" y="3662280"/>
            <a:ext cx="4032360" cy="26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E625-59D2-4E51-8EEE-02A5C276197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901D99-1FEC-4AEB-985A-20BF1CC89470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Démonstrations] Interactions humain-ordinateur porté via des interfaces diffus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Virtualisation d’interfaces matérielles pour le support à la tâch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08000" y="3860640"/>
            <a:ext cx="3673440" cy="2481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851280" y="3860640"/>
            <a:ext cx="5184720" cy="245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095F-A404-40CA-96AE-3D8D4BBF3D0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A9379C-4404-42EB-9F94-37662F26652B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893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Démonstrations] Interactions humain-ordinateur porté via des interfaces diffus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Diffusion d’interfaces matérielles à même l’environnem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96720" y="3573360"/>
            <a:ext cx="3888000" cy="2745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72000" y="3571920"/>
            <a:ext cx="3816360" cy="276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C8ED-FCED-44FB-A096-0C0F99EBCA3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AC094-4A5D-463D-B2B5-92BC55ABA6C6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893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Démonstrations] Interactions humain-ordinateur porté via des interfaces diffus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Diffusion d’interfaces matérielles à même l’environnem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95280" y="3506760"/>
            <a:ext cx="4103640" cy="2860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859280" y="3489480"/>
            <a:ext cx="3529080" cy="289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2CA7-931D-4E48-89EB-68DB3151C92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1EC86-E7CD-4C27-BBC2-CD1AAAE34D8D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Démonstrations] Interactions humain-ordinateur porté via des interfaces diffus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4920" y="3860640"/>
            <a:ext cx="8929800" cy="2513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012000" y="2987640"/>
            <a:ext cx="1225440" cy="873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140360" y="3002040"/>
            <a:ext cx="1295280" cy="858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7451640" y="3157560"/>
            <a:ext cx="1619280" cy="70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6531-8BB8-49C0-AB0F-96EACA94AB6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9482A-BE80-4AF9-A5E1-E82206859329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640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Dispositifs d’interaction 1] Visualisation interactive de données avec des points d’intérê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D. Da Costa, G. Venturini (Ecole Polytechnique de Tours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Visualisation en fonction de points d’intérêt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Choix du nombre de points d’intérêt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Fouille visuell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Interaction avec la visualisa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Ex : Quel est votre chef lieu préféré ? (france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Selon plusieurs question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Points d’intérêt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A7F4-B5E3-47A8-A7DE-C1B6CCA688F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DB552A-45F5-45A3-B506-6B434F2D35CB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640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[Dispositifs d’interaction 1] Visualisation interactive de données avec des points d’intérê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Utilisation de points d’intérêts (POI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nction de similarité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Sim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(entre deux données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ositionnement des donné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580000" y="3645000"/>
            <a:ext cx="3467160" cy="26575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68360" y="5373720"/>
            <a:ext cx="2990880" cy="647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3635280" y="5365800"/>
            <a:ext cx="1781280" cy="94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13E4-53AF-4068-93DE-DF54D52D462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459C57-744D-411C-B882-A1A82E7FA84F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IHM’06 et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35488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Gill Sans"/>
              </a:rPr>
              <a:t>IHM’06 </a:t>
            </a: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(18-21 avril 2006, Montréal, Canada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Tutoriel </a:t>
            </a:r>
            <a:r>
              <a:rPr b="0" i="1" lang="fr-FR" sz="2800" spc="-1" strike="noStrike">
                <a:solidFill>
                  <a:srgbClr val="ffffff"/>
                </a:solidFill>
                <a:latin typeface="Gill Sans"/>
              </a:rPr>
              <a:t>(</a:t>
            </a: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Statistiques pour l’IHM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Articl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Démonstr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Gill Sans"/>
              </a:rPr>
              <a:t>CHI’06 </a:t>
            </a: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(24-27 avril 2006, Montréal, Canada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Articl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Research Overview </a:t>
            </a: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(End-User Programming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Panel </a:t>
            </a: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(The State of Tangible Interfaces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Poster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451640" y="1844640"/>
            <a:ext cx="1297080" cy="930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51640" y="4005360"/>
            <a:ext cx="1305000" cy="91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183F-C859-4EFD-96CC-3A20F49AED7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4FAD8-2064-4BDF-AE17-5610E4E603C4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640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[Dispositifs d’interaction 1] Visualisation interactive de données avec des points d’intérê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4920" y="3141720"/>
            <a:ext cx="4176720" cy="2954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211640" y="3141720"/>
            <a:ext cx="4932360" cy="223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F8D6-CD35-4FE1-AE6F-9614EC12B2A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61EC1-7EBD-44B4-A65D-036F30ECF521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64072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Dispositifs d’interaction 1] Évaluation heuristique d’un clavier virtuel pour la télévision interactiv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Pierre-Alexandre Lapointe (Ecole Polytechnique de Montréal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MARSHALL et al.</a:t>
            </a:r>
            <a:r>
              <a:rPr b="0" i="1" lang="fr-FR" sz="2000" spc="-1" strike="noStrike">
                <a:solidFill>
                  <a:srgbClr val="ffffff"/>
                </a:solidFill>
                <a:latin typeface="Gill Sans"/>
              </a:rPr>
              <a:t> User performance and attitude towards schemes for alphanumeric data entry using restricted input devices. </a:t>
            </a: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Behaviour &amp; Information technology, 2001, vol.20, No.3 pp.167-188.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Testent 14 différents types de mode de saisi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Trop d’aller-retour du regard télécommande-écra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Il vaut mieux regarder l’écra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Opte pour croix multidirectionnel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936D-1AEB-44F7-AB90-221276D7167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7742F2-FB29-4927-A153-AED63135CA22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Interactivité 1] Évaluation des dispositifs mobiles : sur le terrain ou en laboratoire 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F. Jambon, C. Golanski, P.J. Pommier (CLIPS-IMAG / MultiCom, Grenoble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Présentation de deux expérimentations pour un système de PD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Méthodologie classique en laboratoir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Expérimentation terrai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Comparaison des erreurs détectées par les 2 méthod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A noter :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Difficultés de champ de vision et fatigue du caméraman sur le terrai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Aléa des conditions réelles (croise un collègue et discute)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136D-DD33-4A91-8F74-7515D10743E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D16E98-F194-4607-A09F-F4757285F4D0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Interactivité 1] Un système de visite virtuelle pour un bureau 3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J. Vandromme, S. Degrande, P. Plénacoste, L. Provenzano, C.Chaillou (lifl, Lille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Boule de crista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Projet ALCOVE + Lucid Group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508720" y="3956040"/>
            <a:ext cx="3600360" cy="2065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788000" y="3357720"/>
            <a:ext cx="1296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8000" y="6453360"/>
            <a:ext cx="6408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Light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900000" y="4765680"/>
            <a:ext cx="3600720" cy="204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12E1-A3F2-4C9E-8CB4-5A24C32ACEB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6EC58-497A-4E85-A83C-1C19999A1846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[Interactivité 1] Un système de visite virtuelle pour un bureau 3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788000" y="3357720"/>
            <a:ext cx="1296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08000" y="3141720"/>
            <a:ext cx="4176720" cy="26812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356000" y="3141720"/>
            <a:ext cx="4680000" cy="263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219B-C80A-4849-AC0E-AAA3C1A7B56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D69B6E-B201-4C3F-9C1A-9FC6F56D5C86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893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IHM et arts technologiques : au-delà de l’écran et du clavi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René Barsalo (Directeur Stratégie et développement, Société des Arts Technologiques SAT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Travaille depuis longtemps dans le desig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A commencé avec colle+ciseaux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A connu l’arrivé de l’ordinateu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Disparition des typographes (présents depuis Gutenberg !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9B3F-BC09-408E-B0C7-C365FDC2E9E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0310E7-F6F9-49DF-AEFE-6CC8A6DB5B26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89308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IHM et arts technologiques : au-delà de l’écran et du clavi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SAT = Société des Arts Numériqu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http://www.sat.qc.ca/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http://www.michelcartier.com/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6000 membr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Presque tous "natifs du numérique"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Problème de l’âg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Générations !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BB80-C4D5-4753-A556-343B48A4A03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5DE8C2-1B4B-477C-B4CD-902829F56DDF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893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8280360" cy="5516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365200" y="6345360"/>
            <a:ext cx="605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Gill Sans Light"/>
              </a:rPr>
              <a:t>Le fossé des générations</a:t>
            </a:r>
            <a:r>
              <a:rPr b="0" lang="fr-FR" sz="2000" spc="-1" strike="noStrike">
                <a:solidFill>
                  <a:srgbClr val="000000"/>
                </a:solidFill>
                <a:latin typeface="Gill Sans Light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Gill Sans Light"/>
              </a:rPr>
              <a:t>(René Barsalo, SAT, 20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CF28-EF41-46B7-A803-FCA918CED48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C6DF67-2D00-4FEF-A078-2C36C92FE756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89308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IHM et arts technologiques : au-delà de l’écran et du clavi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Diffusion : modèle de distribution de la culture a changé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Plus besoin d’espac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Besoin d’être DISPONI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Projet TOT (Territoires Ouverts - Open Territories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de la SAT (http://www.tot.sat.qc.ca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nSLAM (OpenSource) : Serveur de diffusion de son en 8.2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pixelTango : Performance visuelle, mixag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teleCHACHA : Application vidéo de téléprésence (Panoscope)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lightTWIST : dé[re]formation d’imag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6EE8-3C85-4D5F-B88A-CE6CF617EF5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64C5F4-BCBD-46C1-AA3C-076987C68616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640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Evolution de la télévision numérique et convergen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Bernard Caron (Vice-président, Technologies de radiodiffusion, Centre de recherche sur les télécommunications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TV HD (Télévision Haute Définition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Quelle forme va-t-elle prendre 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Quels standards 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Les même erreurs de la TV sont entrain de se reproduir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Format USA, Format Japon, Format Europe, …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BB05-6825-4979-B95D-7D9972CF04B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A88ADF-68A9-4B71-A21B-C7465DE6B568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IHM’06 et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843280" y="2565360"/>
            <a:ext cx="3384360" cy="21290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048400" y="5084640"/>
            <a:ext cx="49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ill Sans Light"/>
              </a:rPr>
              <a:t>18-21 avril 2006, Montréal, 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B12A-F12F-4E3D-BC17-E5FCE2A04DD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3978E2-3461-4363-8DD5-D50A2B54C00E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640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Evolution de la télévision numérique et convergen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Gros débi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1 chaîne HD ?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4 canaux (a,b,c,d) ?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Gill Sans"/>
              </a:rPr>
              <a:t>Plusieurs publicités selon auditoir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Gill Sans"/>
              </a:rPr>
              <a:t>Choisir angle de vue (Match de basket)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Numérique </a:t>
            </a:r>
            <a:r>
              <a:rPr b="0" lang="fr-FR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 Donné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Statistiques sur joueur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TV intéractiv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Changements sociaux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Chacun écoute ce qui l’intéress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Attention, n’est plus d’expérience commun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9BB8-C8AA-417C-9EE1-A62D4E0D58E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666F94-4061-4B2D-B8CB-7B0B63113D63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Interactivité 2] Les transitions visuelles différenciées : principes et applic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C. Schlienger, P. Dragicevic, C. Ollagnonv, S. Chatty (INTUILAB, Toulouse, INTACTILE, Montpellier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11280" y="3860640"/>
            <a:ext cx="8208720" cy="252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D014-8BC0-490D-93A3-A38232C4B9E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E2172-ED7B-4211-A9CC-BA8B4A4B69F7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785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[Interactivité 2] Les transitions visuelles différenciées : principes et applic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pie d’un fichie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es efforts sont portés sur l’animation d’attente, mais peu sur la continuité visuelle de l’opération dans sa globalité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067280" y="3068640"/>
            <a:ext cx="4176720" cy="260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50BC-B562-4E23-B4A1-96E1B4CF9B0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B7781-F3FD-4382-9E47-DEC561EA72C3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785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[Interactivité 2] Les transitions visuelles différenciées : principes et applic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79280" y="3068640"/>
            <a:ext cx="4464000" cy="29224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788000" y="3068640"/>
            <a:ext cx="4248000" cy="294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423C-83DB-4BAF-BB17-4B3D21B5C15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53799B-0686-4522-B733-6E856C2FE555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785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Interactivité 2] Les transitions visuelles différenciées : principes et applic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Application des transitions différenciées aux mobilist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Gestion du trafic aérien en Europ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(Centre Expérimental d’Eurocontrol)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132000" y="4581360"/>
            <a:ext cx="4319640" cy="133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4B02-D95F-4F6C-9F1D-45A3097CA09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AEEE20-BB8A-45E3-BAFE-4084034EA913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785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[Interactivité 2] Les transitions visuelles différenciées : principes et applic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3068640"/>
            <a:ext cx="9144000" cy="28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19C5-C865-4BFE-8AAB-182F180E550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7FA400-E1E9-45D4-8D74-82726253CFC8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785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[Interactivité 2] Les transitions visuelles différenciées : principes et applic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79280" y="3213000"/>
            <a:ext cx="8856720" cy="297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958F-DFEF-4864-AC7B-75C96639A21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CDD9B0-AB7A-40CF-9BB9-20E23833E163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[Architecture logicielle] Améliorer la conception des applications interactives par l’utilisation conjointe du modèle PAC et des patrons de concep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Gill Sans"/>
              </a:rPr>
              <a:t>Thierry Duval (IRISA, Rennes), Jean-Claude Tarby (Trigone, Lille)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Utilisé en cour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Gill Sans"/>
              </a:rPr>
              <a:t>Master GL Univ. Rennes 1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Gill Sans"/>
              </a:rPr>
              <a:t>Master e-Service Univ. Lille 1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http://noce.univ-lille1.fr/projets/ModX/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Automate de fonctionnement (Bouilloire)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Design Pattern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PAC-D (Tours de Hanoï)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Génération du code JAVA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5146-8C09-4B01-91AA-4FA1D034074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B59595-C20C-49E4-A9C7-3CC2EE4456B0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Architecture logicielle] Validation et Vérification Formelles de Systèmes Interactifs MultiModaux Fondées sur la Preuv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Y. Aitameur, I. Aitsadoune, J.M. Mota, (ENSMA, Univ. Poitiers), M. Baron (INRIA, Rocquencourt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Vérification formelle d’IHM Multi-Modales (IHM3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Technique formelle fondée sur la preuve : la méthode B-évènementi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Raffinem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Niveaux 3 : multimodal en oupu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CD0A-71E3-41E9-818A-633FE1DD3DF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20774-28CC-41E7-A675-087955F16BEE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Architecture logicielle] Instrumentation de Focus-Group dans la Co-Conception de Systèmes Mixt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E. Dubois, C. Bach, G. Gauffre, S. Charfi, P. Salembier (IRIT, Metapages, Toulouse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Explorer les solutions possibles pour un systèm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Exploration systématique des techniques d'interaction mixtes envisageabl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3566-0E77-4711-AA67-C097B333455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DB64C1-EE5C-4206-94A8-71DD0420E724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Tutoriel : Statistiques pour l’IHM (6h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Monique Noirhomme (Namur, Belgique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Rappels de théorie des probabilité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Tests d’hypothès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Test dépend de ce qu’on veut étudie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Souvent des erreurs dans les articl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Logiciels d’analyse : ANOVA, SAS, XLstat, jmp, R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Tutoriel sur Internet : VASSA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0103-DB2F-47FA-B856-2C94108191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BCD1D-D081-42F2-9229-F65058971D3F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6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[Démonstrations] Exploiter des interfaces mobiles dans le cadre d’un travail collaboratif co-prés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Gill Sans"/>
              </a:rPr>
              <a:t>S. Borkowski, J. Maisonnaisse, J. Letessier, J.L. Crowley (GRAVIR-IMAG, INRIA Rhônes-Alpes)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Interface dirigeable (orientable) : Steerable Camera Projector (SCP)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Gill Sans"/>
              </a:rPr>
              <a:t>Utilisation de plusieurs surface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Gill Sans"/>
              </a:rPr>
              <a:t>Déformation de l’image projetée (Homographie)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Validation d’un bouto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Gill Sans"/>
              </a:rPr>
              <a:t>Masquage du doig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Gill Sans"/>
              </a:rPr>
              <a:t>Seuil d’occlusion partielle </a:t>
            </a:r>
            <a:r>
              <a:rPr b="0" i="1" lang="fr-FR" sz="1800" spc="-1" strike="noStrike">
                <a:solidFill>
                  <a:srgbClr val="ffffff"/>
                </a:solidFill>
                <a:latin typeface="Gill Sans"/>
              </a:rPr>
              <a:t>L(t) = | Lin(t) – Lout(t) |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Gill Sans"/>
              </a:rPr>
              <a:t>et temps d’occlusion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Gill Sans"/>
              </a:rPr>
              <a:t>Widget tactile projeté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Vidéo enregistre quel utilisateur interag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Géolocalisation acoustiqu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OCR : numérisation de documents ou d’objets physiqu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B0C7-4AA5-41D4-8C52-EE0E38B6349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AD27E-18B2-4819-8883-C63EC8F2ED18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6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Démonstrations] Exploiter des interfaces mobiles dans le cadre d’un travail collaboratif co-prés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Q: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Super de ne pas s’encombrer avec une table tactile </a:t>
            </a: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 mobi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Conditions de luminosité ?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Intégration dans leur bureau de travai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DnD ?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Surface de projection ?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Perspective de continuer pour améliorer les temps de latence ? Pistes ?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3d900"/>
                </a:solidFill>
                <a:latin typeface="Gill Sans"/>
              </a:rPr>
              <a:t>+</a:t>
            </a: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 « Come as you are » Kruger 91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e14802"/>
                </a:solidFill>
                <a:latin typeface="Gill Sans"/>
              </a:rPr>
              <a:t>-</a:t>
            </a: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 Coût de l’intégration trop élevé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RMQ: Attention, différent de coût de dvpp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6021720" y="3860640"/>
            <a:ext cx="3059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ill Sans Light"/>
              </a:rPr>
              <a:t>Vidéo 7min (il y a des g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ill Sans Light"/>
              </a:rPr>
              <a:t>qui semblent très intéressé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5F6A-8907-4683-B02A-C16EF944A78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1A211F-CD49-4D1C-BFE7-2EA85037A31B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Démonstrations] UseMonitor: suivre l'évolution de l'utilisabilité des sites web à partir de l'analyse des fichiers de journalis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Walter de Abreu Cybis (Ecole Polytechnique Montréal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Facteur d’utilisabilité des sites web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(lorsque les pages font l’objet de modifications fréquentes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Extrait un utilisateurs des log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6C22-C863-4AFF-BECF-35F3BC2A795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8AD1B4-95C8-48E5-89E8-D421AF7FB47C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Démonstrations] Le clavier FishEy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Mathieu Raynal, Philippe Truillet (IRIT, Toulouse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Techniques de saisie de texte sur PD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Afficher un clavier complet sur une seule pag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Largeur de l’écran = 240 pixel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Grossissement près du style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08000" y="6467400"/>
            <a:ext cx="6408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Light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1476360" y="4805280"/>
            <a:ext cx="5327640" cy="20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BC17-6E44-47F4-89B2-083B2113DA2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E8CB37-0DA4-46E4-9817-8356B0213B95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[Ergonomie] Qui parle? Comparaison d'indices pour identifier l'interlocuteur dans un monde virtu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Gill Sans"/>
              </a:rPr>
              <a:t>Sylvie Noël, Sarah Dumoulin, (</a:t>
            </a: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Centre de recherches sur les communications, Ottawa, Canada)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Mémoire de qui par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3 manière d’identifier le locuteur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Gill Sans"/>
              </a:rPr>
              <a:t>bulle au-dessus de l'avatar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Gill Sans"/>
              </a:rPr>
              <a:t>afficher le nom de la personn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Gill Sans"/>
              </a:rPr>
              <a:t>Changer couleur d’un cercl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Gill Sans"/>
              </a:rPr>
              <a:t>représentant l'avatar dans un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Gill Sans"/>
              </a:rPr>
              <a:t>mini-cart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Les personnes dans la conditio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des noms se rappellent moins de la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conversatio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5003640" y="3429000"/>
            <a:ext cx="410220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C2CC-2FDC-4C0C-BFB8-54A863B9C51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8393C5-11BA-4CCC-8DD4-FCBC0189C101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Dispositifs d’interaction 2] État de l’art des techniques de présentation d’information sur écran d’assistant numérique personn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S. Baffoun, J.M. Robert (Ecole Polytechnique Montréal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1984 : 1er PD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1993 : 1er PDA tactil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Exploiter l’espace disponible au-delà des frontières de l’écran du PD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Encercler les objets hors écran avec des anneaux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Technique de Juda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E055-19B7-4A93-A6A9-FCEA0CB759D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265881-68CA-4F89-AC14-FE8A00390D8D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[Dispositifs d’interaction 2] État de l’art des techniques de présentation d’information sur écran d’assistant numérique personn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3961080" cy="28339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4427640" y="3500280"/>
            <a:ext cx="4465440" cy="283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1F42-1CD9-4CD3-A8F9-BF8DCE7BE1F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F33AE-6FE9-458D-9392-F2E2DAAF9149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Dispositifs d’interaction 2] Mixage Mobil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O. Delerue, O. Warusfel (IRCAM, Paris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Spacialisation du s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2916360" cy="28116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4211640" y="3500280"/>
            <a:ext cx="4464000" cy="28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27B4-B0DC-43FB-B30C-19CCAE52E60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FB893-A3C6-4FFF-9226-8F344CE65721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[Dispositifs d’interaction 2] Mixage Mobil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484360" y="2637000"/>
            <a:ext cx="4824360" cy="41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E55F-3389-45A9-BD7B-BA3AA763CC4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D3528F-10F5-405E-8216-25D79FBB9EC1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132000" y="2565360"/>
            <a:ext cx="2881440" cy="20192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193120" y="4869000"/>
            <a:ext cx="49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ill Sans Light"/>
              </a:rPr>
              <a:t>24-27 avril 2006, Montréal, 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47FC-EDB5-4AA6-94C0-267631D6FD59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E6951-F5AA-4699-9676-D1CB5F62A251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7487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Opening Keynote - Coping with Complexity in Tasks, Teams, Technology, and Training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Ronald Kruk (Directeur scientifique CAE Inc.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Ancien pilote, chercheur : simulateurs de pilotage, sensation et perception humain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Règle n°1 = Fly the aircraft, all over are secondar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Plusieurs simulateurs : Learning and Training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Progression : simple </a:t>
            </a: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 plus complexe </a:t>
            </a: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 simulateur ré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4832-7FDF-4996-8879-8C14E6A170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687A8-C9E5-4DA7-80F7-66EBF40A0DBF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8930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Opening Keynote] Creating ‘Game Changing’ Innov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Scott Cook (Intuit, USA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Une présentatrice parle sur site web : guide, explique l’utilisation du site, …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Réalisé sur fond ver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Interagit avec le décors (du site web)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Quel rôle joue le client dans votre processus d’innovation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Prendre en compte les client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Les écouter attentivemen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45CA-9138-434E-A9D9-FAE67BE52D7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3B3355-676C-4612-9156-3062FF75B500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Interaction Techniques: Haptic &amp; Gestural] A Role for Haptics in Mobile Interaction: Initial Design Using a Handheld Tactile Display Prototyp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J. Luk, J. Pasquero, S. Little, K. MacLean, V. Lévesque, V. Hayward (Canada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Différentes fréquences de vibra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Menus, liens, …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508720" y="4622760"/>
            <a:ext cx="3635280" cy="22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D66C-9101-41C9-957F-B51922362B9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9008C-AC12-4485-AC26-6CA888B2CE06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Interaction Techniques: Haptic &amp; Gestural] A Role for Haptics in Mobile Interaction: Initial Design Using a Handheld Tactile Display Prototyp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324000" y="3500280"/>
            <a:ext cx="6769080" cy="335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0E18-702C-407C-9421-2C7EC2F917B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AB99DC-3CD8-4104-A784-86FB77ED303B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3640" y="2133360"/>
            <a:ext cx="8567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Interaction Techniques: Haptic &amp; Gestural] The Springboard: Multiple Modes in One Spring-loaded Contro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K. Hinckley, F. Guimbretiere, P. Baudisch, R. Sarin, M. Agrawala, E. Cutrell (Microsoft, USA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1981 : Keyboard </a:t>
            </a:r>
            <a:r>
              <a:rPr b="0" lang="fr-FR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 tex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25 years later : Pen </a:t>
            </a:r>
            <a:r>
              <a:rPr b="0" lang="fr-FR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 inking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Cycle, mêmes problèm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Modes allow a few inputs to invoke many oper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hold down a nonpreferred-han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* Define ‘unit actions’ necessary to complete the task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* Eliminate additionnal subtask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6877080" y="3583080"/>
            <a:ext cx="1584360" cy="14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B929-8C95-48B0-9420-30DED3CA2AD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D5794-A3D5-4BDC-9FD8-F1F5EFCB5A02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640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[Interaction Techniques: Haptic &amp; Gestural] The GlobeFish and the GlobeMouse: Two New Six Degree of Freedom Input Devices for Graphics Applic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Gill Sans"/>
              </a:rPr>
              <a:t>B. Froehlich, J. Hochstrate, V. Skuk, A. Huckauf (Bauhaus-Universität Weimar, Allemagne)</a:t>
            </a: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SpaceBall, SpaceMouse, Dimentor, DialBox, …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Citation du CAT Hachet et al. 2002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Translation (3DOF) + Rotation (3DOF) on separate devic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Hyp : [3DOF + 3DOF] &gt; [1 x 6DOF]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Trackball rotations VS Mental Rota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3x4 ANNOVA tes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6516720" y="4797360"/>
            <a:ext cx="2627280" cy="206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1DDE-9478-4A39-894E-EF228801DB1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1E0670-980A-46A1-9DC2-D06C9A23221C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627280" y="6467400"/>
            <a:ext cx="388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Light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[Interaction Techniques: Haptic &amp; Gestural] The GlobeFish and the GlobeMouse: Two New Six Degree of Freedom Input Devices for Graphics Applic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GlobeFish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108000" y="3933720"/>
            <a:ext cx="2519280" cy="23130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2771640" y="3357720"/>
            <a:ext cx="3313080" cy="17557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5724360" y="4941720"/>
            <a:ext cx="3419640" cy="17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3E7C-E717-4AA4-B04C-1604907EEC1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966589-BB6D-4608-8D07-186985FF80D7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[Interaction Techniques: Haptic &amp; Gestural] The GlobeFish and the GlobeMouse: Two New Six Degree of Freedom Input Devices for Graphics Applic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GlobeFish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3313080" cy="28335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539640" y="3933720"/>
            <a:ext cx="3457800" cy="235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366C-40D7-440E-A241-0EDEB383966B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1A2B2-CAF2-4DFA-8268-C225F2150F4F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[Interaction Techniques: Haptic &amp; Gestural] The GlobeFish and the GlobeMouse: Two New Six Degree of Freedom Input Devices for Graphics Applic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GlobeMous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3348000" y="3592440"/>
            <a:ext cx="5040360" cy="27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96A2-68CC-42D1-80ED-DFEF0AEE88F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D0E1B3-AC8D-4ACA-B4C0-70BC9F9E63D7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195640" y="6467400"/>
            <a:ext cx="4321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Light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[Interaction Techniques: Haptic &amp; Gestural] The GlobeFish and the GlobeMouse: Two New Six Degree of Freedom Input Devices for Graphics Applic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Comparais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GlobeFish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GlobeMous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SpaceMous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4356000" y="3500280"/>
            <a:ext cx="32464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CE07-E754-4485-A328-D2070746765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5C5B64-4C37-4100-9818-4FF6577BA02F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Multidisplay Environments] Perspective Cursor: Perspective-Based Interaction for Multi-Display Environment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M. A. Nacenta, S. Sallam, B. Champoux, S. Subramanian, C. Gutwin (University of Saskatchewan, Canada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179280" y="4581360"/>
            <a:ext cx="3888000" cy="22179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4067280" y="4572000"/>
            <a:ext cx="403200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74FE-E33F-4D5D-8A7A-0D70F961AE6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1ED83E-0C05-4DC0-BBB1-E09578A13B84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56908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Opening Keynote] Coping with Complexity in Tasks, Teams, Technology, and Training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Développement de simulateurs plus réalistes, au-delà du pilotag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Circulation aérienn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Comba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Temps (Météo)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Simulation de tour de contrôl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Large displa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176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Ecrans à 360°</a:t>
            </a:r>
            <a:r>
              <a:rPr b="0" lang="fr-FR" sz="700" spc="-1" strike="noStrike">
                <a:solidFill>
                  <a:srgbClr val="ffffff"/>
                </a:solidFill>
                <a:latin typeface="Gill Sans"/>
              </a:rPr>
              <a:t>.</a:t>
            </a:r>
            <a:endParaRPr b="0" lang="en-US" sz="7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445000" y="3556080"/>
            <a:ext cx="3591000" cy="275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90D2-7767-405A-9A42-B377B36E08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B47A3-7994-4CF3-9B15-E91DEB4214ED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Multidisplay Environments] Perspective Cursor: Perspective-Based Interaction for Multi-Display Environment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1908000" y="3500280"/>
            <a:ext cx="5040360" cy="326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03E8-12EB-49A4-8434-C4FFA11FBA9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C0C35F-A85A-4B4D-98A9-35BC909A2779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Multidisplay Environments] Perspective Cursor: Perspective-Based Interaction for Multi-Display Environment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108000" y="3500280"/>
            <a:ext cx="2913120" cy="33577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3060720" y="3500280"/>
            <a:ext cx="3456000" cy="33069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6522120" y="3495600"/>
            <a:ext cx="2716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 Light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Gill Sans Light"/>
              </a:rPr>
              <a:t>Curseur se défo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 Light"/>
              </a:rPr>
              <a:t>sur la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 Light"/>
              </a:rPr>
              <a:t>=&gt; Confort 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 Light"/>
              </a:rPr>
              <a:t>résultats posit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 Light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Gill Sans Light"/>
              </a:rPr>
              <a:t>Pb = 1 seul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 Light"/>
              </a:rPr>
              <a:t>de v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 Light"/>
              </a:rPr>
              <a:t>multi-user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Gill Sans Light"/>
              </a:rPr>
              <a:t>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8E33-6820-4A5F-B5AB-788439F0229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E11BD1-5910-4569-BC69-683E0D800A92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Multidisplay Environments] Improving Selection of Off-Screen Targets with Hopping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P. Irani, C. Gutwin, X. D. Yang (Canada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2700360" y="3605040"/>
            <a:ext cx="3816360" cy="313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201E-6FDB-4687-8BAB-E11092AC130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8E143-24DC-42FB-89E8-C4F44E04B7CC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785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Designing for Tangible Interactions] Getting a Grip on Tangible Interaction: A Framework on Physical Space and Social Interac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E. Hornecker (University Sussex, UK) J. Buur (Denmark</a:t>
            </a: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Q: Do you have method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to evaluate tangible interaction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A: No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5148360" y="3789360"/>
            <a:ext cx="3995640" cy="28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E1BF-17FD-4A68-BB71-9ACE46C2DD3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DD6407-C55D-4026-B399-69186A34B538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195640" y="6467400"/>
            <a:ext cx="4321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Light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893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Designing for Tangible Interactions] Finding Design Qualities in a Tangible Programming Spa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Y. Fernaeus, J. Tholander</a:t>
            </a: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 (</a:t>
            </a: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Stockholm University, Sweden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Dans une écol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3780000" y="4059360"/>
            <a:ext cx="3384360" cy="279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F7C3-3FAE-445E-9876-DB3AE5666CC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CD31DA-5E4F-486F-AD17-777C265F19D9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250920" y="6467400"/>
            <a:ext cx="6265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Light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893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Designing for Tangible Interactions] Finding Design Qualities in a Tangible Programming Spa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3573360"/>
            <a:ext cx="4427640" cy="30672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6012000" y="4289400"/>
            <a:ext cx="3132000" cy="25686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>
            <a:off x="4356000" y="3068640"/>
            <a:ext cx="3068640" cy="1541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38FE-9C04-4103-9B73-577D5CF913F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BDC536-EA85-4635-996A-1500364C9418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50920" y="6467400"/>
            <a:ext cx="6265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Light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Designing for Tangible Interactions] Design Requirements for Technologies that Encourage Physical Activ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S. Consolvo, K. Everitt, I. Smith, J. A. Landay (USA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1403280" y="3944880"/>
            <a:ext cx="3024360" cy="29131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5219640" y="4005360"/>
            <a:ext cx="2325600" cy="285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86F5-0B8C-4822-AEAE-96A8B261006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F08D6-FA6C-4F9D-B460-7521902C7C52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Ubiquitous Computing] (Beyond Record and Play) - Backpacks: Tangible Modulators for Kinetic Behavio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H. Raffle, A. Parkes, H. Ishii, J. Lifton, (MIT Media Lab)</a:t>
            </a: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1979640" y="4221000"/>
            <a:ext cx="5400720" cy="249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86C6-5D8B-43B6-9AAE-B6B81BE7F9E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9BAC81-7DE4-4DB0-B478-133F4640A862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[Ubiquitous Computing] Embedded Phenomena: Supporting Science Learning with Classroom-sized Distributed Simul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Tom Moher (Chicago, USA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108000" y="3778200"/>
            <a:ext cx="3168720" cy="299412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3348000" y="3789360"/>
            <a:ext cx="3314880" cy="292248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4"/>
          <a:stretch/>
        </p:blipFill>
        <p:spPr>
          <a:xfrm>
            <a:off x="6516720" y="3141720"/>
            <a:ext cx="243684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5379-A7EC-4652-A133-3CCFDA67EEB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A0B270-D490-4E03-A7A0-097DDC7040BE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Ubiquitous Computing] TAP: TouchAndPla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Gill Sans"/>
              </a:rPr>
              <a:t>D. G. Park, J. K. Kim, J. B. Sung, J. H. Hwang, C. H. Hyung, S. W. Kang, (Korea)</a:t>
            </a: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2700360" y="3573360"/>
            <a:ext cx="3479760" cy="314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F0B0-EDA6-4374-B937-B96461BA33D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BC63D1-BC51-4030-8188-2D1875B4DE60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712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Interaction et espaces virtuels] Co-conception d’expériences interactives augmentées dédiées aux situations muséal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C. Bach, P. Salembier, E. Dubois</a:t>
            </a: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(IRIT, Toulouse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Cycle d’analyse (de dvppt) pour "attaquer" un système de divertissement : aspects sociaux, culturels, interaction, …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95280" y="4714920"/>
            <a:ext cx="7850160" cy="21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A87A-11AE-47F9-AF34-E3C57564FB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AC56D0-76B1-4112-A6AE-C5DF23E9568A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Pen] Speech Pen: Predictive Handwriting based on Ambient Multimodal Recogni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Gill Sans"/>
              </a:rPr>
              <a:t>K. Kurihara, M. Goto, J. Ogata, T. Igarashi  (Japan)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2050920" y="3473280"/>
            <a:ext cx="5042160" cy="334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EDC4-F66C-4696-993A-BC24033E8C2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7FB2D-FAC0-4C66-9B1B-F7F2E15B7E2D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50920" y="6467400"/>
            <a:ext cx="6265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Light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Pen] Hover Widgets: Using the Tracking State to Extend the Capabilities of Pen-Operated Devic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Gill Sans"/>
              </a:rPr>
              <a:t>T. Grossman, K. Hinckley, P. Baudisch, M. Agrawala, R. Balakrishnan (Microsoft, USA)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106200" y="3753000"/>
            <a:ext cx="3745080" cy="31194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4643280" y="3573360"/>
            <a:ext cx="4356360" cy="95112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4"/>
          <a:stretch/>
        </p:blipFill>
        <p:spPr>
          <a:xfrm>
            <a:off x="6227640" y="5111640"/>
            <a:ext cx="2916360" cy="17463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5"/>
          <a:stretch/>
        </p:blipFill>
        <p:spPr>
          <a:xfrm>
            <a:off x="3995640" y="4653000"/>
            <a:ext cx="2880000" cy="130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0977-EC9A-4EF4-BCBD-D6AE8D83367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F8159-9CBA-49F4-BAA2-1D4FF56A3841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89308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Research Overview] End-User Programming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Brad Myers (Carnegie Mellon University, USA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Programming = Transform a mental idea in tasks for compute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EUP = People who write program but NOT as their primary job func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Examples : Analysing using MathLab, Word macro, creating web page, creating email filters, mashups, automating office task, visual (graphical) programs,…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C197-3272-4835-AB95-4094982E142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3467D7-1E57-4890-A7C1-D5325EB97528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8893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Research Overview] End-User Programming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Most people who write  programs today are NOT professional programmer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12 Million non-programmer declar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Why is programming so difficult 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Ex: 9 mots clés pour écrire Helloworld en JAV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Approches : visual programming, programming by example, simpler textual programming, better environments, "Natural programming" approach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0A70-4FA0-4702-B509-84737DFB604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2FF62-2B62-42AD-9C4D-6BDFD378FED6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8893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Research Overview] End-User Programming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Experts know more "shemas"  or "plans" and how to put then togethe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Novice don’t know strategies for debugging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Incremental testing important to understanding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3F2C-89F4-4CB0-861F-D2AACF43A8D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F2EE6-2B83-418D-A582-58059CF942CF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SIG Special Interest Group] Tips and Tricks for Better Usability Test Recommend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R. Molich, K. Pero, N. Modgil, W. Schroede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Expert review or usability test 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13 équipes d’expert analysent le site de IKEA PAX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350 remarqu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73% des remarques apparaissent isolées !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(càd dans 1 équipe seulement !)</a:t>
            </a: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71EE-271E-4CFF-9A3C-90F9C01CFB0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D9D79-8CD1-4894-ABE7-71080343E1E9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49636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[Panel] The State of Tangible Interfaces: Projects, Studies, &amp; Open Issu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Gill Sans"/>
              </a:rPr>
              <a:t>Moderateur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Gill Sans"/>
              </a:rPr>
              <a:t>Oren Zuckerman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Gill Sans"/>
              </a:rPr>
              <a:t>Lars Erik Holmquist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Gill Sans"/>
              </a:rPr>
              <a:t>Locuteur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Gill Sans"/>
              </a:rPr>
              <a:t>Brygg Ullmer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Gill Sans"/>
              </a:rPr>
              <a:t>Hiroshi Ishii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Gill Sans"/>
              </a:rPr>
              <a:t>George Fitzmaurice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Gill Sans"/>
              </a:rPr>
              <a:t>Yvonne Rogers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Gill Sans"/>
              </a:rPr>
              <a:t>Wendy Mackay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Gill Sans"/>
              </a:rPr>
              <a:t>Tom Rodden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Gill Sans"/>
              </a:rPr>
              <a:t>Public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Gill Sans"/>
              </a:rPr>
              <a:t>Eva Hornecker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Gill Sans"/>
              </a:rPr>
              <a:t>William Buxton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Gill Sans"/>
              </a:rPr>
              <a:t>Michel Beaudoin-Lafon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4067280" y="2565360"/>
            <a:ext cx="4895640" cy="367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3A72-BE77-4FBA-953F-3C47A8BCFFD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B2A7E-0FC9-4717-B7D1-50AA016A1A90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Interacting with Large Surfaces] TeamTag: Exploring Centralized versus Replicated Controls for Co-located Tabletop Groupwar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M. R. Morris, A. Paepcke, T. Winograd, J. Stamberger, Stanford University (USA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Annotation de photo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Botanique, plantes, animaux, …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5365800" y="3936960"/>
            <a:ext cx="3238560" cy="239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C993-7314-4BD0-99D4-5D38D52DCA0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E7A566-0673-45B6-ADDE-5258F52A29B8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250920" y="6467400"/>
            <a:ext cx="6265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Light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Interacting with Large Surfaces] TeamTag: Exploring Centralized versus Replicated Controls for Co-located Tabletop Groupwar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4788000" y="3500280"/>
            <a:ext cx="4032000" cy="328140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395280" y="3500280"/>
            <a:ext cx="4105440" cy="331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A7DB-C731-4A39-8F5C-53AB9A2DD84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D46BFD-EABD-4564-B392-22704424BFD0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3059280" y="6467400"/>
            <a:ext cx="3457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Light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Interacting with Large Surfaces] Keepin’ It Real: Pushing the Desktop Metaphor with Physics, Piles and the Pe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A. Agarawala, R. Balakrishna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(University of Toronto, Canada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5292720" y="3408480"/>
            <a:ext cx="3851280" cy="34495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-42120" y="4761000"/>
            <a:ext cx="535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 Light"/>
              </a:rPr>
              <a:t>http://honeybrown.ca/Pubs/BumpTop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B6FE-AB06-4208-ABFD-6960A0D0315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542C9A-0D0E-4DA6-957E-82D72BF36837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785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Interaction et espaces virtuels]</a:t>
            </a:r>
            <a:r>
              <a:rPr b="1" lang="fr-FR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Vers la maîtrise du virtuel à travers le réel : un nouvel usage de l’informatique en desig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Thomas Dorta (École de design industriel, Univ. Montréal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Interfaces graphiques sont lourdes : menu, espac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Limite la créa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Coupler méthodes numériques et méthodes manuell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Coupler Réel et Virtu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Conserver l’ambiguïté, l’abstrait, l’impréci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La créativité ne dépend pas de la vitess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A48C-8FBE-4708-B670-310535E3631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BF66A-C8CF-4444-86CF-0D60FA275849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059280" y="6467400"/>
            <a:ext cx="3457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Light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Poster] A study of Hand Shape Use in Tabletop Gesture Interac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J. Epps, S. Lichman, M. Wu (Australia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4859280" y="3494160"/>
            <a:ext cx="3708360" cy="331956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250920" y="3470400"/>
            <a:ext cx="4427280" cy="334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FC2B-71FC-42FB-9AB8-4B2A4EB5D11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0A340-01D0-49D4-B61E-271444DABBD9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3059280" y="6467400"/>
            <a:ext cx="3457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Light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Poster] Tangible Programming in the Classroom – A practical Approach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M. Horn, R. Jacob (Tufts University, USA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6929280" y="3395520"/>
            <a:ext cx="2106720" cy="161784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106200" y="5122800"/>
            <a:ext cx="4537080" cy="161784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4"/>
          <a:stretch/>
        </p:blipFill>
        <p:spPr>
          <a:xfrm>
            <a:off x="4788000" y="5118120"/>
            <a:ext cx="4248000" cy="155088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5"/>
          <a:stretch/>
        </p:blipFill>
        <p:spPr>
          <a:xfrm>
            <a:off x="3059280" y="3581280"/>
            <a:ext cx="3097080" cy="126864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6"/>
          <a:stretch/>
        </p:blipFill>
        <p:spPr>
          <a:xfrm>
            <a:off x="108000" y="4275000"/>
            <a:ext cx="1584360" cy="73836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7"/>
          <a:stretch/>
        </p:blipFill>
        <p:spPr>
          <a:xfrm>
            <a:off x="108000" y="3554280"/>
            <a:ext cx="2448000" cy="7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E025-CE40-4895-BDEE-D8706A1F420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F1FEB8-AC33-44D4-91D9-6CB38F8B9814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Poster] Airhockey Over a Distan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F. Mueller, L. Cole, S. O’Brien, W. Walmink (Australia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6087960" y="3213000"/>
            <a:ext cx="3056040" cy="352908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>
            <a:off x="1917720" y="3068640"/>
            <a:ext cx="4094280" cy="378936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682560" y="3068640"/>
            <a:ext cx="3241800" cy="21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896D-CB82-4151-8BE8-9F09DC4D628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46335-73B8-4875-82F1-7F47B6195DAD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179280" y="6467400"/>
            <a:ext cx="6337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Light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Poster] Collaborative Multimedia Learning Environment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S. Pobiner (Harvard University, USA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1332000" y="5084640"/>
            <a:ext cx="2592360" cy="172728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3924360" y="5084640"/>
            <a:ext cx="2592360" cy="17272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4"/>
          <a:stretch/>
        </p:blipFill>
        <p:spPr>
          <a:xfrm>
            <a:off x="6492960" y="5046840"/>
            <a:ext cx="2651040" cy="176688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5"/>
          <a:stretch/>
        </p:blipFill>
        <p:spPr>
          <a:xfrm>
            <a:off x="6443640" y="3259080"/>
            <a:ext cx="2700360" cy="182556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6"/>
          <a:stretch/>
        </p:blipFill>
        <p:spPr>
          <a:xfrm>
            <a:off x="0" y="3505320"/>
            <a:ext cx="5867280" cy="165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D71E-AB75-4D36-81D8-11AF7EB5C53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80E366-762D-4B6F-8625-DAAB0E93E0D1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Poster] Public Social Private Desig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A. Warr, E. O’Neill (University of Bath, UK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2124000" y="3087720"/>
            <a:ext cx="4969080" cy="37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0ABB-C594-4842-8DBD-55B9C4D4D0F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9A378F-7344-49D1-A2BE-9C904087E8DB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Poster] Full-time Wearable Headphone-Type Gaze Detecto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H. Manabe, M. Fukumoto (NTT, Japan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2987640" y="3500280"/>
            <a:ext cx="3889440" cy="336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6788-B442-4F55-8183-EFFF815143A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2FD9A7-EEEF-45BD-BF13-2F55AE2EDFF9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3059280" y="6467400"/>
            <a:ext cx="3457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Light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Poster] Blended Real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D. Huynh, Y. Xu, S. Wang (Mit, Microsoft, USA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0" y="3068640"/>
            <a:ext cx="5292720" cy="378288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5580000" y="2997360"/>
            <a:ext cx="2592360" cy="208584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4"/>
          <a:stretch/>
        </p:blipFill>
        <p:spPr>
          <a:xfrm>
            <a:off x="6481800" y="5084640"/>
            <a:ext cx="2627280" cy="178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DF7A-2A16-41B3-A6C7-5ACD8AFC059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2B923-0330-4620-84C6-223B1306429A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785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Poster] A Comparative Study Of Map Us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Gill Sans"/>
              </a:rPr>
              <a:t>N. Olof Bouvin, C. Brodersen, S. Bodker (Denmark)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1387440" cy="14396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3313080" y="3068640"/>
            <a:ext cx="5796000" cy="372096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4"/>
          <a:stretch/>
        </p:blipFill>
        <p:spPr>
          <a:xfrm>
            <a:off x="1779480" y="4149720"/>
            <a:ext cx="1352520" cy="151128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5"/>
          <a:stretch/>
        </p:blipFill>
        <p:spPr>
          <a:xfrm>
            <a:off x="395280" y="5373720"/>
            <a:ext cx="1584360" cy="144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4DE9-149B-4E23-8AC2-6598241C94A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CAD9C8-4567-49DC-8CAB-BC9FE33AD5A0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Poster] Collaborative Simulation Interface for Planning Disaster Measur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Gill Sans"/>
              </a:rPr>
              <a:t>K. Kobayashi, A. Narita, M. Hirano, I. Kase, S. Tsuchida, T. Omi, T. Kakizaki, T. Hosokawa (NTT, Japan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0" y="4005360"/>
            <a:ext cx="4284720" cy="281628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3"/>
          <a:stretch/>
        </p:blipFill>
        <p:spPr>
          <a:xfrm>
            <a:off x="5616720" y="3860640"/>
            <a:ext cx="3492360" cy="295452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4"/>
          <a:stretch/>
        </p:blipFill>
        <p:spPr>
          <a:xfrm>
            <a:off x="3924360" y="5229360"/>
            <a:ext cx="1942920" cy="147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F260-D8C8-45C4-BA6C-4A4FA1DCB32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0A596F-531C-4C71-9488-3D213DD3C164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893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Workshop] What is the Next Generation of Human-Computer Interaction 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1116000" y="3141720"/>
            <a:ext cx="2590920" cy="47628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3"/>
          <a:stretch/>
        </p:blipFill>
        <p:spPr>
          <a:xfrm>
            <a:off x="2340000" y="5661000"/>
            <a:ext cx="4825800" cy="33012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4"/>
          <a:stretch/>
        </p:blipFill>
        <p:spPr>
          <a:xfrm>
            <a:off x="2482920" y="5300640"/>
            <a:ext cx="4736880" cy="34308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5"/>
          <a:stretch/>
        </p:blipFill>
        <p:spPr>
          <a:xfrm>
            <a:off x="2050920" y="4508640"/>
            <a:ext cx="5308560" cy="76176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6"/>
          <a:stretch/>
        </p:blipFill>
        <p:spPr>
          <a:xfrm>
            <a:off x="2411280" y="5950080"/>
            <a:ext cx="5016600" cy="34272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7"/>
          <a:stretch/>
        </p:blipFill>
        <p:spPr>
          <a:xfrm>
            <a:off x="2556000" y="4076640"/>
            <a:ext cx="4444920" cy="40644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8"/>
          <a:stretch/>
        </p:blipFill>
        <p:spPr>
          <a:xfrm>
            <a:off x="2195640" y="3716280"/>
            <a:ext cx="5054400" cy="3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4E9F-0309-488B-8412-86D34526B7E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1F08BE-DD17-4D83-8EC2-6509AECB64C5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IHM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785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Interaction et espaces virtuels]</a:t>
            </a:r>
            <a:r>
              <a:rPr b="1" lang="fr-FR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Vers la maîtrise du virtuel à travers le réel : un nouvel usage de l’informatique en desig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Dachille et al. 1999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La meilleure boîte à outils c’est la mai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Panoscop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Salle immersiv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Immergé dans le dessin 3D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ill Sans"/>
              </a:rPr>
              <a:t>Modification en temps ré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RVDi : Réalité Virtuelle Dessinée Immersiv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14802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ill Sans"/>
              </a:rPr>
              <a:t>RVD : sans l’immers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297080" cy="930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372360" y="2997360"/>
            <a:ext cx="2628720" cy="253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DF53-A61B-445A-8C43-0C95B8097DC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50C28-999E-413F-A62B-CBDD4001DFFD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893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Workshop] What is the Next Generation of Human-Computer Interaction 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4572000" y="3063960"/>
            <a:ext cx="4572000" cy="379404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3"/>
          <a:stretch/>
        </p:blipFill>
        <p:spPr>
          <a:xfrm>
            <a:off x="0" y="2982960"/>
            <a:ext cx="4716360" cy="36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2AFF-6389-4DE0-BD27-1391542C758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F30754-7996-4C04-8D76-B7CE25B24762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893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d9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ill Sans"/>
              </a:rPr>
              <a:t>[Workshop] What is the Next Generation of Human-Computer Interaction 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9144000" cy="155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2DAF-8769-4CEE-BBBE-9837F0A5A02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184D8-A418-41D1-B9E4-AF5539E303E5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4352"/>
            </a:gs>
            <a:gs pos="100000">
              <a:srgbClr val="7293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93b2"/>
                </a:solidFill>
                <a:latin typeface="Gill Sans"/>
              </a:rPr>
              <a:t>Retour sur : CHI’06</a:t>
            </a:r>
            <a:endParaRPr b="0" lang="en-US" sz="4400" spc="-1" strike="noStrike">
              <a:solidFill>
                <a:srgbClr val="7293b2"/>
              </a:solidFill>
              <a:latin typeface="Gill Sans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7524720" y="404640"/>
            <a:ext cx="1305000" cy="91440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5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6"/>
          <a:stretch/>
        </p:blipFill>
        <p:spPr>
          <a:xfrm>
            <a:off x="2916360" y="2492280"/>
            <a:ext cx="2879640" cy="21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I BAYONNE PAYS BASQU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A52D-B4EB-4CCC-994F-A4F555B9AD26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71E82-0B6E-43E2-8567-90689AF139DF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15:28:52Z</dcterms:created>
  <dc:creator>E E</dc:creator>
  <dc:description/>
  <dc:language>en-US</dc:language>
  <cp:lastModifiedBy>Guillaume</cp:lastModifiedBy>
  <dcterms:modified xsi:type="dcterms:W3CDTF">2006-06-22T08:16:36Z</dcterms:modified>
  <cp:revision>320</cp:revision>
  <dc:subject/>
  <dc:title>Titre du diaporama</dc:title>
</cp:coreProperties>
</file>